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4620-0F00-4989-9949-4042DCD3C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the Associate Director of the Electronic Privacy Information Center. EPIC is a public interest research center established in 1994 to focus public attention on emerging civil liberties issues and to protect privacy, the First Amendment, and constitutional values.  I manage two projects at EPIC the Privacy Coalition and our voting project the National Committee for Voting Integ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D53C4-7F61-42E1-A5EF-EAD024D41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D217D-E009-4291-BBB4-D5863D39B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32EAA-984F-4F95-926A-E89C8C713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EA19C-19C1-48CE-83E7-31A4D999E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12380-2C53-4438-8677-1237F8B0B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94963-09E6-4ABE-B76B-66A6E7C75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67357-AE28-43D8-B226-022600AA8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F285A-28E0-4934-AC31-9A13E7D75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1CF17-B857-41AD-8294-E5422B876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3DCCD-FDA9-46BD-9482-2B20F712F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D7924-C7F4-4A77-9A6E-1405C46D2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10509-1289-484F-85BF-1B722098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A9F9B-263C-4B63-9EBC-639FF4BC1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98275-C593-41C9-A7EA-5CC4C9E08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AB001-BED2-414F-B050-7C9863328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FF0C3-30DB-4A91-807D-38B7A5C3D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FE5F0-1FB5-48A8-BFA3-EB5BA8392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230EB7-B506-4789-9121-39F0A2FE85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E5A69-1F1E-4D14-B44A-F7A7B2088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822CF-EE47-4831-B73B-15F322F0A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952D8-6145-4543-8F1E-8F8082223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05558-9DEF-46BE-A8FA-6C7C6CAC7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AB088-ECE1-4A4A-AF0E-CF00B0CE6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261076-3821-4256-96A4-A293DB2A3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9DDCD-B10B-45DA-9869-36869544D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46E66-FB87-4879-A94A-1AADBB196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05FD3-8C13-47CB-863A-C5AAC9926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7A568-2D12-408C-8A15-5509F11A9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7CC2FD-AEF3-44EE-8E43-DC688D1F6A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472912-21B8-4C99-9903-CF5B7A20A8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04724-F19B-4496-9421-68E1AA182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8B571-A1B9-4CD8-A26F-42C5A0097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5B9DC-5546-423F-8E19-F5167E071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01345-CD63-4E57-9DCB-50475F33F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5F4FF-AE4F-4E5C-9DAB-4F6776ED5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A5F9C-2198-49DA-8819-041E58DFA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356D-1391-40D6-AECF-45A0020485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1085760" cy="6854760"/>
            <a:chOff x="0" y="0"/>
            <a:chExt cx="1085760" cy="6854760"/>
          </a:xfrm>
        </p:grpSpPr>
        <p:sp>
          <p:nvSpPr>
            <p:cNvPr id="42"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320" y="162000"/>
              <a:ext cx="152280" cy="6553080"/>
              <a:chOff x="76320" y="162000"/>
              <a:chExt cx="152280" cy="6553080"/>
            </a:xfrm>
          </p:grpSpPr>
          <p:sp>
            <p:nvSpPr>
              <p:cNvPr id="44"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74"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5"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6"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1748-83F1-4A09-983F-58DDBFCB8E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7"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0" y="0"/>
            <a:ext cx="1085760" cy="6854760"/>
            <a:chOff x="0" y="0"/>
            <a:chExt cx="1085760" cy="6854760"/>
          </a:xfrm>
        </p:grpSpPr>
        <p:sp>
          <p:nvSpPr>
            <p:cNvPr id="115"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320" y="163440"/>
              <a:ext cx="152280" cy="6550200"/>
              <a:chOff x="76320" y="163440"/>
              <a:chExt cx="152280" cy="6550200"/>
            </a:xfrm>
          </p:grpSpPr>
          <p:sp>
            <p:nvSpPr>
              <p:cNvPr id="117"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47" name="PlaceHolder 2"/>
          <p:cNvSpPr>
            <a:spLocks noGrp="1"/>
          </p:cNvSpPr>
          <p:nvPr>
            <p:ph type="dt" idx="7"/>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8" name="PlaceHolder 3"/>
          <p:cNvSpPr>
            <a:spLocks noGrp="1"/>
          </p:cNvSpPr>
          <p:nvPr>
            <p:ph type="ftr" idx="8"/>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9" name="PlaceHolder 4"/>
          <p:cNvSpPr>
            <a:spLocks noGrp="1"/>
          </p:cNvSpPr>
          <p:nvPr>
            <p:ph type="sldNum" idx="9"/>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9F80-B2CA-4BC7-A329-9AE9708E13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pic.org/" TargetMode="External"/><Relationship Id="rId2" Type="http://schemas.openxmlformats.org/officeDocument/2006/relationships/image" Target="../media/image1.png"/><Relationship Id="rId3" Type="http://schemas.openxmlformats.org/officeDocument/2006/relationships/slideLayout" Target="../slideLayouts/slideLayout10.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votingintegrity.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Why Audit for Transparency</a:t>
            </a:r>
            <a:endParaRPr b="0" lang="en-US" sz="4400" spc="-1" strike="noStrike">
              <a:solidFill>
                <a:srgbClr val="00ffff"/>
              </a:solidFill>
              <a:latin typeface="Times New Roman"/>
            </a:endParaRPr>
          </a:p>
        </p:txBody>
      </p:sp>
      <p:sp>
        <p:nvSpPr>
          <p:cNvPr id="195"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llie Coney</a:t>
            </a:r>
            <a:endParaRPr b="0" lang="en-US" sz="3200" spc="-1" strike="noStrike">
              <a:solidFill>
                <a:srgbClr val="ffffff"/>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ational Committee for Voting Integrity</a:t>
            </a:r>
            <a:endParaRPr b="0" lang="en-US" sz="2600" spc="-1" strike="noStrike">
              <a:solidFill>
                <a:srgbClr val="ffffff"/>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inneapolis, MN</a:t>
            </a:r>
            <a:endParaRPr b="0" lang="en-US" sz="2600" spc="-1" strike="noStrike">
              <a:solidFill>
                <a:srgbClr val="ffffff"/>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ctober 26, 2007</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arency and Public Elections</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the cooperation of public elections professionals, researchers, academics, election reformers, and voting right advocacy groups</a:t>
            </a:r>
            <a:endParaRPr b="0" lang="en-US" sz="3200" spc="-1" strike="noStrike">
              <a:solidFill>
                <a:srgbClr val="000000"/>
              </a:solidFill>
              <a:latin typeface="Times New Roman"/>
            </a:endParaRPr>
          </a:p>
          <a:p>
            <a:pPr marL="284400" indent="-284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 to support the approaches adopted</a:t>
            </a:r>
            <a:endParaRPr b="0" lang="en-US" sz="3200" spc="-1" strike="noStrike">
              <a:solidFill>
                <a:srgbClr val="000000"/>
              </a:solidFill>
              <a:latin typeface="Times New Roman"/>
            </a:endParaRPr>
          </a:p>
          <a:p>
            <a:pPr marL="284400" indent="-284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resources to support audits</a:t>
            </a:r>
            <a:endParaRPr b="0" lang="en-US" sz="3200" spc="-1" strike="noStrike">
              <a:solidFill>
                <a:srgbClr val="000000"/>
              </a:solidFill>
              <a:latin typeface="Times New Roman"/>
            </a:endParaRPr>
          </a:p>
          <a:p>
            <a:pPr marL="284400" indent="-284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tant eye toward impr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Challenges to Election Audits</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a common language for election audits: </a:t>
            </a:r>
            <a:endParaRPr b="0" lang="en-US" sz="3200" spc="-1" strike="noStrike">
              <a:solidFill>
                <a:srgbClr val="000000"/>
              </a:solidFill>
              <a:latin typeface="Times New Roman"/>
            </a:endParaRPr>
          </a:p>
          <a:p>
            <a:pPr lvl="1" marL="683280" indent="-262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sts can talk with other technologists</a:t>
            </a:r>
            <a:endParaRPr b="0" lang="en-US" sz="2800" spc="-1" strike="noStrike">
              <a:solidFill>
                <a:srgbClr val="000000"/>
              </a:solidFill>
              <a:latin typeface="Times New Roman"/>
            </a:endParaRPr>
          </a:p>
          <a:p>
            <a:pPr lvl="1" marL="683280" indent="-262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ion officials can talk with other election officials</a:t>
            </a:r>
            <a:endParaRPr b="0" lang="en-US" sz="2800" spc="-1" strike="noStrike">
              <a:solidFill>
                <a:srgbClr val="000000"/>
              </a:solidFill>
              <a:latin typeface="Times New Roman"/>
            </a:endParaRPr>
          </a:p>
          <a:p>
            <a:pPr lvl="1" marL="683280" indent="-262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ing rights advocates can talk with other voting rights advocates. </a:t>
            </a:r>
            <a:endParaRPr b="0" lang="en-US" sz="2800" spc="-1" strike="noStrike">
              <a:solidFill>
                <a:srgbClr val="000000"/>
              </a:solidFill>
              <a:latin typeface="Times New Roman"/>
            </a:endParaRPr>
          </a:p>
          <a:p>
            <a:pPr lvl="1" marL="683280" indent="-262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y speak with each 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ts and Public Perceptions</a:t>
            </a: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respond to the audit environment based on expectations.</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and predictable communications from financial service providers</a:t>
            </a:r>
            <a:endParaRPr b="0" lang="en-US" sz="3200" spc="-1" strike="noStrike">
              <a:solidFill>
                <a:srgbClr val="000000"/>
              </a:solidFill>
              <a:latin typeface="Times New Roman"/>
            </a:endParaRPr>
          </a:p>
          <a:p>
            <a:pPr lvl="1" marL="668520" indent="-257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statement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dit Card Bill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Service Contact Information</a:t>
            </a:r>
            <a:endParaRPr b="0" lang="en-US" sz="2800" spc="-1" strike="noStrike">
              <a:solidFill>
                <a:srgbClr val="000000"/>
              </a:solidFill>
              <a:latin typeface="Times New Roman"/>
            </a:endParaRPr>
          </a:p>
          <a:p>
            <a:pPr lvl="1" marL="66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ay Off for Audits</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ions are highly emotional and contested even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ners v. Loser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he high Cost of Litigation</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robustness of processes and institution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learning curve on election administration and retention of institutional memory that is more resilient. </a:t>
            </a:r>
            <a:endParaRPr b="0" lang="en-US" sz="2800" spc="-1" strike="noStrike">
              <a:solidFill>
                <a:srgbClr val="000000"/>
              </a:solidFill>
              <a:latin typeface="Times New Roman"/>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udit Election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cies rely on self governance</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governance relies on access to information</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the right mix of resources is better addressed with understanding the process and quantifying that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685800" y="2616120"/>
            <a:ext cx="7772400" cy="147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llie Coney is Associate Director of the Electronic Privacy Information Center. EPIC is a public interest research center established in 1994 to focus public attention on emerging civil liberties issues and to protect privacy, the First Amendment, and constitutional values.</a:t>
            </a:r>
            <a:endParaRPr b="0" lang="en-US" sz="2800" spc="-1" strike="noStrike">
              <a:solidFill>
                <a:srgbClr val="000000"/>
              </a:solidFill>
              <a:latin typeface="Times New Roman"/>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9999"/>
                </a:solidFill>
                <a:uFillTx/>
                <a:latin typeface="Times New Roman"/>
                <a:hlinkClick r:id="rId1"/>
              </a:rPr>
              <a:t>http://www.epic.org/</a:t>
            </a:r>
            <a:endParaRPr b="0" lang="en-US" sz="2800" spc="-1" strike="noStrike">
              <a:solidFill>
                <a:srgbClr val="000000"/>
              </a:solidFill>
              <a:latin typeface="Times New Roman"/>
            </a:endParaRPr>
          </a:p>
        </p:txBody>
      </p:sp>
      <p:pic>
        <p:nvPicPr>
          <p:cNvPr id="197" name="" descr=""/>
          <p:cNvPicPr/>
          <p:nvPr/>
        </p:nvPicPr>
        <p:blipFill>
          <a:blip r:embed="rId2"/>
          <a:stretch/>
        </p:blipFill>
        <p:spPr>
          <a:xfrm>
            <a:off x="1219320" y="533520"/>
            <a:ext cx="6843600" cy="129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IC’s Voting Project</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676520"/>
            <a:ext cx="7772400" cy="396216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votingintegrity.org</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onal Committee for Voting Integrity (NCVI) is an EPIC project  that brings together experts on voting issues from across the country to promote  constructive  dialogue among computer scientists, elections administrators, voting  rights advocates, policymakers, the media and the public on the best  methods for achieving in practice: fair, reliable, secure,  accessible, transparent, accurate, accountable, and auditable public elec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udit?</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ons learned by the financial services industry</a:t>
            </a:r>
            <a:endParaRPr b="0" lang="en-US" sz="32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 of an entity</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sight of complicated processe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ing of resource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e transparency or opennes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ru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ransparency</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records laws are tools for the public to better understand how resources of an organization have been us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key component of a functioning healthy democr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arency and Election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Government Efforts by Citizens</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shine is the best disinfectant</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processes to public review</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 Confidence in Elections</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support for the proper administration of elections</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 funding for election administration nee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arency is Part of the Election Proces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shing times and locations where voters can cast ballots</a:t>
            </a:r>
            <a:endParaRPr b="0" lang="en-US" sz="3200" spc="-1" strike="noStrike">
              <a:solidFill>
                <a:srgbClr val="000000"/>
              </a:solidFill>
              <a:latin typeface="Times New Roman"/>
            </a:endParaRPr>
          </a:p>
          <a:p>
            <a:pPr marL="291600" indent="-291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ing out sample ballots to voters</a:t>
            </a:r>
            <a:endParaRPr b="0" lang="en-US" sz="3200" spc="-1" strike="noStrike">
              <a:solidFill>
                <a:srgbClr val="000000"/>
              </a:solidFill>
              <a:latin typeface="Times New Roman"/>
            </a:endParaRPr>
          </a:p>
          <a:p>
            <a:pPr marL="291600" indent="-291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ing on the results of elections</a:t>
            </a:r>
            <a:endParaRPr b="0" lang="en-US" sz="3200" spc="-1" strike="noStrike">
              <a:solidFill>
                <a:srgbClr val="000000"/>
              </a:solidFill>
              <a:latin typeface="Times New Roman"/>
            </a:endParaRPr>
          </a:p>
          <a:p>
            <a:pPr marL="291600" indent="-291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s on registrations, absentee ballots submitted, and votes ca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arency is not about...</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ing agreem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ing approva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Conscien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mission of guil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challenges to Transparency and Elections</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ing election administration into uniform data point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ing how much information is enough</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information be captured in a uniform and reliable manner</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data collected in a meaningful and productive way that will better inform election administrators, the public, media, and decision mak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0-01-15T18:23:16Z</dcterms:created>
  <dc:creator>Marc Rotenberg</dc:creator>
  <dc:description/>
  <dc:language>en-US</dc:language>
  <cp:lastModifiedBy>Electronic Privacy Information Center</cp:lastModifiedBy>
  <dcterms:modified xsi:type="dcterms:W3CDTF">2007-10-30T14:39:39Z</dcterms:modified>
  <cp:revision>42</cp:revision>
  <dc:subject/>
  <dc:title>Statewide-Centralized Voter Registration Databases</dc:title>
</cp:coreProperties>
</file>