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747D-5C7A-4213-A384-6EE484440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talk today will first give an overview of the indivisible connection between our form of government and the basic freedom we call privacy.  Privacy has evolved to become a basic human right with the convergence of diverse populations in densely populated areas, innovation, and new business or government practic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the Associate Director of the Electronic Privacy Information Center. EPIC is a public interest research center established in 1994 to focus public attention on emerging civil liberties issues and to protect privacy, the First Amendment, and constitutional values.  I manage two projects at EPIC the Privacy Coalition and our voting project the National Committee for Voting Integ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D39-E12C-4964-BD0B-61E99A65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B2D-B2A6-4111-91CD-D33426F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9A1-8B48-467D-B504-41CC5489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DC3-32F2-4454-852D-10A9FD4F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D9F-13EE-4723-AA23-6CF79E89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13C-2A52-4CFC-88E7-5F58E4B3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429-0164-47A5-9D75-9A1E5C62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3BB-D332-4079-A8DE-6ED1787A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2AF-0C71-423B-ABED-9C48236C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B52-E585-4F0A-8108-D7E7700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3F5-447D-4A9F-8C23-8420DC78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D01-69A1-4785-B310-8EB56DD4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2803-935E-4008-A4E4-B88089026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pic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vealed “I”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onference on Privacy and Identit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tober 25-27,  2007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ulty of Law, University of Otta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llie C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Dire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63520" y="609480"/>
            <a:ext cx="6815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and Voting in Public 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spect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re certain demographic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US Afric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/Mexic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ges of Voter Fra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 Identity Th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egal V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cit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on v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v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has at least one government issued voter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ernment ID is needed by those who travel, enter government buildings, write ch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identification can be given to the few who do not have thes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History of Voting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th Amendment prohibited the denial of voting rights based on 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th Amendment prohibits the denial of the right to vote based on gen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th Amendment prohibits the poll tax for federal el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th  Amendment prohibits the denial of voting rights of those 18 and older base on age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Rights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Rights Act of 1965, several times including mostly recently renewed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Voter Registratio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 America Vote Act (old habits are hard to br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d Behavior 2000-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on voter roll list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information and disinformation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ptive campaign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ing of 8 US Attorneys for among other things, not more aggressively pursuing voter fraud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for Limiting Access to V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allow only state issued photo identification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 proof of citize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on voter rolls purg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ging tac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ims of Hurricane Katrina and V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Homelan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ed States Postal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ion Administ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ce of Access to the Bal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oice for disabled, minority, poor, elderly, homeless,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voice elected representation is comprom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ginalizing emerging political identity of minority groups is a real consequence of tactics to disenfranchis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llie Coney is Associate Director of the Electronic Privacy Information Center. EPIC is a public interest research center established in 1994 to focus public attention on emerging civil liberties issues and to protect privacy, the First Amendment, and constitutional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epic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843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7772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ce &amp; Ethnicity Implications on the Right to V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Arial-Italic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-ItalicMT"/>
              </a:rPr>
              <a:t>Marginalized persons long for one kind of privacy (freedom from unwanted surveillance) while suffering under another kind (a conspiracy of neglect)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Right to Vote and Privacy Conn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Rights are limi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ter registra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ter registration lis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row voter Identifica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ter proof of citizenship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Rights and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the ballot box empowers communities who would not other wise have a voice in the decision making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for the representative purpose of democracy to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History of Struggling for Enfranchis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-Italic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-ItalicMT"/>
              </a:rPr>
              <a:t>In 1965 only 200 elected positions were held by African Americans that number by 2000 increased to 9,0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-Italic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-ItalicMT"/>
              </a:rPr>
              <a:t>In the US only 30% of African American Voters Describe themselves as Republicans while 60% affiliate themselves with the Democra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-Italic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-ItalicMT"/>
              </a:rPr>
              <a:t>An aggressive Latino voter participation project in Nevada for the 1998 Senate election nearly doubled participation from the 1996 e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-Italic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-ItalicMT"/>
              </a:rPr>
              <a:t>In 2004 an very close race for Governor for the state of Washington was won by a 128 vote margin. Most Asian voters supported the Democrat and it is suggested that if their margin of participation were higher no recount would have occur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4320" y="609480"/>
            <a:ext cx="7515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08160" y="609480"/>
            <a:ext cx="672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4959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3:24:13Z</dcterms:created>
  <dc:creator>Marc Rotenberg</dc:creator>
  <dc:description/>
  <dc:language>en-US</dc:language>
  <cp:lastModifiedBy>Electronic Privacy Information Center</cp:lastModifiedBy>
  <dcterms:modified xsi:type="dcterms:W3CDTF">2007-10-30T14:41:50Z</dcterms:modified>
  <cp:revision>21</cp:revision>
  <dc:subject/>
  <dc:title>The Revealed “I” A Conference on Privacy and Identity October 25-27,  2007 Faculty of Law, University of Ottawa</dc:title>
</cp:coreProperties>
</file>