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A454-FEA4-4B13-AC15-3E7DEE2F4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talk today will first give an overview of the indivisible connection between our form of government and the basic freedom we call privacy.  Privacy has evolved to become a basic human right with the convergence of diverse populations in densely populated areas, innovation, and new business or government practic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the Associate Director of the Electronic Privacy Information Center. EPIC is a public interest research center established in 1994 to focus public attention on emerging civil liberties issues and to protect privacy, the First Amendment, and constitutional values.  I manage two projects at EPIC the Privacy Coalition and our voting project the National Committee for Voting Integ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4C1F-2F31-4FAD-9691-77B30E51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27A8-4F0C-427F-BD77-E2E1E87F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21D-9AF4-4507-BA11-4BD35B92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B47-E8F4-447C-895D-0B44EF0D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1B1-1805-4CC8-AE17-B5B6C56A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962-26C1-4992-8133-6F21E40C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673-1ED6-466E-BE4D-06D39C75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A74-9276-4649-BCC3-DA1A7F70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13A-C27A-482B-85C4-4C2CD5D4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21A-D218-45BC-ADA1-66473276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B0D-5186-40FF-A5AA-2B0D220F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B4E-FCB6-4635-A341-3C8DCC75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AAD6-8D40-4AEE-8C27-5C01CCAD9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pic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vealed “I”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onference on Privacy and Identit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ctober 25-27,  2007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ulty of Law, University of Otta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llie C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 Dire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63520" y="609480"/>
            <a:ext cx="6815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vacy and Voting in Public E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spect Vo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are certain demographic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US African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/Mexican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ges of Voter Fra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r Identity Th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egal V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citi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on v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v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one has at least one government issued voter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vernment ID is needed by those who travel, enter government buildings, write ch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identification can be given to the few who do not have these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History of Voting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th Amendment prohibited the denial of voting rights based on r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th Amendment prohibits the denial of the right to vote based on gen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th Amendment prohibits the poll tax for federal el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th  Amendment prohibits the denial of voting rights of those 18 and older base on age.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ing Rights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ing Rights Act of 1965, several times including mostly recently renewed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ional Voter Registration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lp America Vote Act (old habits are hard to br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d Behavior 2000-20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lon voter roll list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information and disinformation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ptive campaign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ing of 8 US Attorneys for among other things, not more aggressively pursuing voter fraud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 for Limiting Access to Vo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allow only state issued photo identification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 proof of citize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lon voter rolls purge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ging tac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ims of Hurricane Katrina and Vo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ment of Homeland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ed States Postal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ion Administ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ce of Access to the Bal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oice for disabled, minority, poor, elderly, homeless,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a voice elected representation is comprom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ginalizing emerging political identity of minority groups is a real consequence of tactics to disenfranchis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llie Coney is Associate Director of the Electronic Privacy Information Center. EPIC is a public interest research center established in 1994 to focus public attention on emerging civil liberties issues and to protect privacy, the First Amendment, and constitutional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epic.or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6843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2616120"/>
            <a:ext cx="77724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ce &amp; Ethnicity Implications on the Right to V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Arial-Italic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Arial-ItalicMT"/>
              </a:rPr>
              <a:t>Marginalized persons long for one kind of privacy (freedom from unwanted surveillance) while suffering under another kind (a conspiracy of neglect).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Right to Vote and Privacy Conn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ing Rights are limit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ter registratio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ter registration lis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rrow voter Identificatio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ter proof of citizenship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ing Rights and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to the ballot box empowers communities who would not other wise have a voice in the decision making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for the representative purpose of democracy to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History of Struggling for Enfranchis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-Italic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Arial-ItalicMT"/>
              </a:rPr>
              <a:t>In 1965 only 200 elected positions were held by African Americans that number by 2000 increased to 9,0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-Italic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Arial-ItalicMT"/>
              </a:rPr>
              <a:t>In the US only 30% of African American Voters Describe themselves as Republicans while 60% affiliate themselves with the Democra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-Italic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Arial-ItalicMT"/>
              </a:rPr>
              <a:t>An aggressive Latino voter participation project in Nevada for the 1998 Senate election nearly doubled participation from the 1996 el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-Italic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Arial-ItalicMT"/>
              </a:rPr>
              <a:t>In 2004 an very close race for Governor for the state of Washington was won by a 128 vote margin. Most Asian voters supported the Democrat and it is suggested that if their margin of participation were higher no recount would have occur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4320" y="609480"/>
            <a:ext cx="7515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08160" y="609480"/>
            <a:ext cx="6727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4959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3:24:13Z</dcterms:created>
  <dc:creator>Marc Rotenberg</dc:creator>
  <dc:description/>
  <dc:language>en-US</dc:language>
  <cp:lastModifiedBy>Electronic Privacy Information Center</cp:lastModifiedBy>
  <dcterms:modified xsi:type="dcterms:W3CDTF">2007-10-30T14:41:50Z</dcterms:modified>
  <cp:revision>21</cp:revision>
  <dc:subject/>
  <dc:title>The Revealed “I” A Conference on Privacy and Identity October 25-27,  2007 Faculty of Law, University of Ottawa</dc:title>
</cp:coreProperties>
</file>